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9179-B9E1-4928-852B-5E09D7C406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A50C-3DDB-4F9E-8D66-6A18FAFB79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CFE6-F248-40C1-AF75-6787B28D0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D2E3-5E62-4D19-90F9-A92CAD758B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436F-CE21-4973-A144-1E5C62C4BB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939D7-9870-47FB-A82A-58B3B5E363A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5906-A2AA-4CB1-8CFB-0BF6A3264E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7E23-69C1-411E-A7AC-2C5A11358B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97DE-62EB-4749-9C6A-860F6AE2F8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A5FD-E280-4443-95D6-74D769D8E0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C3B0-3E04-472C-8B94-D36C984597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1312-B81F-4177-96EE-E9099C58AA6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2EC8-E3C8-4585-B3DF-9165822790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77724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Are multi-stakeholder platforms the answer to demand-driven research on sustainable intensification? The case of Babati,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Hillbur, Per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1,3</a:t>
            </a: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 and McCormack, Caitli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Malmö University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Swedish University of Agricultural Sciences (SLU)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nternational Institute of Tropical Agriculture (IITA), Arusha,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002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per explores the challenge to implement sustainable intensification by a combination of science-driven promotion of agricultural technologies and a demand-driven process in a local organizational contex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what ways do research-for-development (R4D) platforms respond to the need for demand-driven researc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he barriers and opportunities for R4D platforms to support a research program on sustainable agricultural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verall performance of the R4D platform approach in a local context in terms of provision of a demand-driven approach to sustainable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Introduction and obj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a local R4D platform (JUMBA) based on project documentation and 14 semi-structured interviews with key stakeholders in the proces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: three dimensions of platform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establishmen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functioning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outco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ddition to these dimensions, we have added a relational dimension to explore how platform members build networks and relations within and outside the platform itself. The relational dimension is essential to understand the platform’s potential for long-term imp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Research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Establishment – origin and struct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lose link between JUMBA and Africa RISING – sometimes conf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igh representa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Functioning – communication and coordin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he role and capacity of the management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mmunication – a major challenge: + and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Lack of facilitation – financial and 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Outcom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coping activity; Objectives and work plan for 15/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d part of Babati District Council annual budget and activity pl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Generally few tangible outcomes on the 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Rel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trengthening local net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nnecting to District Council - sustain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in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Future relation JUMBA - Africa RI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embership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eadership and coordination; 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ard level platforms to reach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80600" y="2205000"/>
            <a:ext cx="814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Ps have considerable potential for sustainable intensification – capacity building and conflict resolution – locally develope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Not independent/mature yet – need for fac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loser to the farmers – ward level ess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Social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armer groups, social capital, gender equ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Conclusion and relevance to SI dimen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22Z</dcterms:modified>
  <cp:revision>87</cp:revision>
  <dc:subject/>
  <dc:title>Slide 1</dc:title>
</cp:coreProperties>
</file>